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6D2-EF3A-40C5-ABCD-57EE5ADC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D20-0DE6-4401-8DF5-EC19271A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5778F-59D0-44E6-AE32-4D85A2A8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5340C-9D96-4278-8E19-BEB4E5B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50183-5FC7-428A-967C-47E05EA1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25604-B392-4177-A65E-32A0D19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4F007-27CD-4135-8391-C9162CB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350D9-4764-4400-9B6A-3615D4E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58918-8F35-49B5-892B-268FCE1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CD3F-4D40-4C73-BBE3-5ACEC81C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FAE1-AE4B-4AE9-AE86-3B0093D3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8D226-1669-48A2-93CF-E2FFA521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F82-53D1-483E-8046-5A2EDEEE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8AE61-AB7F-4B70-81EC-11CCA43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CB2AE-AE88-4D06-BC5D-A4C03D8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11C79-B785-4B45-BA57-ACEBF90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1A485-058E-4AE9-940D-58D768C9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37611-1839-45AA-A8B0-785582B1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7B7EA-656D-4832-8541-CC5C079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20BAF-D572-454D-97CC-41D49BC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130DA-B669-4E3A-8420-182F248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F6A8-57B8-4A8F-A6D5-6CA531F4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E1B5E-B75C-4872-9B94-BD9A2AFF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973-704F-40D4-AE26-9FBEB73C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F899-DF50-4820-B699-340A91A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7F72E-D5E8-4C20-B930-B4D4687F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801B-8A2E-4788-BEAA-7A1D09B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16DFB-B14E-434B-BB26-395443FE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AACC9-EFDC-4D2D-AF00-A2C89B38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AE56-A117-4E4F-86A2-E52A1B9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C6AF9-C6F2-4D32-92B0-31455E7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A1E74-0A0B-43BB-8033-AEE4110E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C155-4EC5-4E50-95C9-1DFF336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75728-01B2-49C8-B9AA-EC0EF42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887-10BE-4B5B-BA4F-6D893D93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C4F0-D79C-448E-9DC2-C64D8591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BDDA1-AAF5-4157-B51A-E060E4C3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E770-1894-4560-A6E4-32D2927B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DDE54-B292-4E6C-9900-7AB27C2A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9C6A2-FC9A-418C-8635-76B834D1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6E171-600D-4E7F-B527-0626395F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7EEB4-6BD0-4313-A3B7-2143D91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2D98D-9864-42E3-A9A3-B4E71419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18508-C002-40BF-B2CB-CB946C6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4C2F-1C76-4E91-BC15-3AED34C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197-D706-49F2-98B2-B1AAC66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87AF7-2F2B-4FAE-8818-A25C6A0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513DA-800B-4E6E-B249-244C877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97207-9108-4233-AFB0-0CD48A09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68C22-3AFE-4BBF-8DDF-C3A48A6F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8D73C-816A-49D5-BB23-F6405610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F3FF7-7AD5-46B1-8064-4B31D0DA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67510-0EAB-4A6C-85D7-D6C45CD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32AF3-A050-4E78-8E99-8AF9970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9822D-07B9-4BC5-BDFA-3E229D74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C081D-C9A6-40E6-A52D-6A16084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3B35-8311-4BF8-A122-C6981E2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EDA93-3A1D-4C61-9492-0D5EE425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E9632-5195-4EE9-9099-44703AD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AC1F0-6B89-4C3F-8ED7-33A925A5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2F8C5-99E5-4DFF-9A01-7DF2ABB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E0D90-D23F-4871-8CE8-E9DFC6C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439DE-51C3-4AFF-9F70-7B1AC1BC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5B0B6-60A7-4CE3-9E19-56918434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5ECE6-26C5-4B3A-AFEF-B55AD50B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B8607-9F88-45FC-8D6C-DEA609BB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6C0B2-7BD9-4D70-9B74-EAB9C09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E049-1DC0-4E41-930B-F1D384E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E9CE0-34EC-4CCE-A4C9-7CB454C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6272D-1462-47FD-A497-E3A6AB09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C502F-F841-4444-BFAD-63C6A89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E4386-1EFD-4069-9BC1-9423C81A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640A9-CA49-495B-9C1E-5754F97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33CF7-364E-477F-AB93-F4EAE53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B2C92-0BCA-411C-A2C8-3B9DFA22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4103F-86CE-47F9-B20F-4F940D9F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E3222-86F5-4787-BA57-377BBD18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823CE-65BB-41DA-87D3-105EDC5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E4A4-C47C-4A91-8A86-4BB6894C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149F0-4547-4D1C-AC5D-8C51B1F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BBA1E-1D63-4B10-9F56-F53C8D51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86E1D-11FD-4AC9-AACB-84C6A27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DAF0F-8CBB-4E2F-B897-C9942F93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719E9-044D-47C9-BA7F-0A2045F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A325D-3197-444D-BF82-CD95B39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7FFC1-D5DE-40D8-AE06-1528907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A98D6-F46A-4385-BA68-23520A4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E1A2B-AA4B-48C6-923F-8D9D3E2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10C64-0782-42C4-A686-EDC3EEBD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D7E-F878-4347-93A9-BD1A9565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E98D5-2750-400E-8DEF-50ECB05E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23289-54EA-445A-92D4-0F4220B3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DF8B2-0B64-4DE4-AC4B-78A3882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12280-561D-4254-AF88-671CCF9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08A0C-F90C-401A-A429-7003BB7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E534A-D3E4-4AEC-BA7F-19B97BDB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AC27B-955D-4234-8498-798E0045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1F215-ACCD-407B-811F-4A478C5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C5C7C-3BEC-4B20-835E-721E1CF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0FFDB-9974-45B0-9C4B-443439A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CC6-AB94-4331-9860-C5E8B76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6AD3F-663F-4657-A940-FDFD418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65AA2-A376-4564-9F07-13C45637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5A593-62EB-4359-A30E-0A1119BF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6ABDA-7ADA-443B-9BCD-B038A61E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02571-1036-4D46-80D0-CA63E8A6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A841A-1DFD-46D5-AC41-D5BCE2F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62CEF-166E-46E7-9440-78F1DEA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4C724-6958-49BD-9064-D29FEC60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72C0C-CB3A-46F5-BC54-368DFA5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0B043-D044-4DEC-897E-9130142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C4D-54D3-4E8F-A046-4F98B11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1F5-1827-4A04-8134-FF7BF21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E38B2-19E6-4D64-BE06-DF01BF4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F7121-FD17-4413-BF7C-EF9C105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B2A5B-8CCE-4185-B6BE-2E5EA2E5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4DD69-F2D4-49A9-8BA3-0096FEF0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E0FDC-F77D-4C54-B7F9-3DD3C028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22E48-AE81-4AAF-81F0-D7966FAF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24571-8925-4FA3-B800-8B30CFE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48B62-882B-4781-8A92-95476C0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577F3-9CCC-4844-B367-DB4BE76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9222A-2224-4714-B16A-20CE316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B75-3DDB-44E9-A761-4EDDEE10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01E78-17A8-4A4E-B8BB-C852A9A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4AFAC-ACE3-4DF0-8623-8899B44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9D33A-B1EF-4C55-8CD5-8FB1CF2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07C57-72D0-4C86-91B1-C0E3258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25F06-D18E-4328-A7BB-D8C295D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67006-20B6-497C-BA45-1BAA8399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CFF2A-18BB-4A93-9AA3-58077FFB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F779A-0DB1-4F33-B61A-E8BA68BE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CAF47-45F5-4E4E-AC67-489A267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EC2CD-A6C7-49BF-B924-ABB3B0E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5931-8FC9-44EE-A62E-004BBBB8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79FAD4-48AA-463F-ACD5-56DAC46B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9A5D5-B8FA-4658-878F-10372D82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77DD9-ED82-4EA3-B299-BF15670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357A7-414B-4DC9-8436-2CA091E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B6EA4-DB93-48EF-9224-FEB7523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CE9EB-9BD2-4E71-8CA3-4EBC290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5DAA9-A219-4D16-A1F1-F5E367AA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AA037-5432-405E-B1FA-21755DDD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C13F1-FEA2-4255-9845-C5439980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F439F-A1E1-492B-8AA3-7C3F2C9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D945-F878-4DC5-A660-AE36D62E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2320E-175B-4877-BBA4-D729D1F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AD8FF-A758-4656-A065-33FE5CD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834BF-3825-41E1-99E2-D9C803F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2C0E1-248F-4992-B3BD-C7676B4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ADB50-20A0-41EB-B7E9-5A3C83E3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A71D2-D6D9-43BA-BF5B-134F7A2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7626C-A344-42A1-8047-E35EBCD8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8725E-7FB4-460B-B4C0-D8887CF3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5E112-C08B-46AE-96D9-7AB4532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F029F-75E1-4D85-A6E3-805536A0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5F2D-6B34-499D-AE22-62EB673A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0FA5A-D456-46E0-8CCB-B1F3531E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D4519-C627-4E11-BFBD-7BABD649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6BB5B-0FB4-4E8B-A339-C299359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2B4B0-5F15-4D6B-9C98-1FE87A3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0032A3-E80C-4FD7-9F88-32D2E5F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F9E1D-7F69-472E-9177-D181262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2A31E-C92D-4ED6-A91E-88AC299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13B12-A55D-4C78-A0A3-3F9AF4A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6A4D0-3B35-44F5-A5FD-124C873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6701C-7D43-476A-B8AE-1F3E262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824E-84A5-4DC6-9E06-C4A6E794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902DE-4CDF-4F1D-BC42-B944C4A4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C9C8A-EF7F-4715-A161-BE2ADDC2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00F17-192B-4BAA-B721-4B4B9D60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4B3C4A-8419-4B97-B700-7D43B99D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61E6E-132C-4551-B907-BA2D493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98E5A1-E2CF-4591-BCBE-63F6BA76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BE3DD0-4AA8-4890-83B5-0A929028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9DAE4-78D2-4D53-8838-CF67585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45C25-6864-4B1E-A9F8-F0E888DF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059ECB-CC43-4402-B60F-8CB318C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5E75-AB27-48FE-9AAF-FAD8D79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8C00A-EA80-44DC-8ABD-458F1B2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B65B5-D6F2-49A6-A0B9-A1D8564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66C83-1A26-4C7D-B2A7-CFF4793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DD38A-3387-47F2-A5A9-8D8F5B78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942BC-A652-461B-A73C-30BFDFC6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9EC392-2078-47ED-B174-A9D4C462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9B126-F11D-4F84-933F-43D6F0D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640F2-B52A-4F4A-AF3B-F5905E04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4C35E-BCD6-4174-80DC-9B1973E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EB1D7-71C1-4BDF-8AD1-BC1414A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52A8-31C1-4D37-926D-ACFC4A6B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ED41C1-E635-44CC-A5BD-B7FE8A5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41BB3C-7A5B-43AA-B123-7A6CD3A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08ED67-9836-43F4-A538-4A2ADC3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F20C59-5AD6-4CDF-9CBE-FF0434D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14F99-49AF-497E-8B42-8886045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49190-9420-429A-8482-770C83DB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8D7150-4B95-48E6-B520-268A6758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AB82-612A-440F-A523-FF8EBB24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E406-C813-4671-AB55-FB81164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460-41A1-4AB3-9166-E6EBB5E5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F83B-D4CD-472A-947D-715C02D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347C-AB60-44EF-A22C-9802127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F8FC-36BD-46D7-9BB3-5FE4E6A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8A20-63BF-4CF8-A7B7-1CDBA75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FB36-D4C8-491B-9C72-9D12EB24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E32E-6D83-44DA-84C1-01C719FA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1FD7-13D6-45B8-901C-F795F2DB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49C3-814E-420D-8F87-47AB9E4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C02E-3E38-4ED0-AA0E-8285BDB3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0C70-2994-45C7-AC31-69643122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2CC-985B-41BE-B306-4BEEDD1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4C48-D34D-431E-92B1-30AA4CA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BD88-961B-4649-AFF6-005CFA4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040D-B19B-4977-AD2B-3D1DD317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4F9C-21BF-48D6-94FA-172E651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ABC5-867F-455C-BEAD-6FF1C90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74B7-5F51-4FF7-A9AA-D15154B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04BE-336E-4C4F-B048-78EF645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510E-3075-4092-AB8E-D629737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9ACB-B955-4D35-8892-B797615D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860A-7330-4651-B963-963FF7B5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53E-13C8-4F96-B0D1-4BD5F346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0261-AD10-4609-A0A5-B41DAFEA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A156-036C-410E-A238-2ED223B2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B1CB-766F-4B1C-8B13-129F088C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E9ED-3653-4FC8-BD67-AC31D098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C0D6-1B77-49A4-996F-3211E34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619A-A4AD-442E-AEC4-CC539E7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10FEC-4E23-4FCA-8BB1-633747B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92BB-4A7B-4AE1-A5E9-D1E7E74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BC35-D684-4000-8BCC-82EF906D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16E8-4F3D-4ED2-BC3E-EA8C3119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2FA-8C86-4E5B-83E8-B3325ED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7AB3C-B873-4EF5-949A-FDF6479A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E166-18BB-4FFA-8385-8F844833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892C-ABFF-4D88-A189-5D925BD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3C83-D7F6-4860-BEE4-7D95BC5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4426-17CF-4D15-93F3-B2823E2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CAAD-86E0-4D00-A37E-BE4BB7C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401F-3A13-4334-A5B7-DC72688E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7B1A9-8267-41FF-8B21-660CB75E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5D85A-B7D5-4540-A36F-EC135F1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5A61-CF06-4B98-B411-226482C7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EA5-ADAE-46C5-900F-0D99A0E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6E15-930F-41F1-88E9-EE0B634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B028-3920-4C54-86F1-82DC8593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2D04-D72C-4510-8B49-040CF524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0E8E8-DC34-4EF5-B7C6-A985F38D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12F1-6803-4DB3-840C-839130C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D0D2-6B85-484A-B848-BF3CD75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2703-652E-4D25-A687-7065425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BBE7-C6FB-4BBE-94EF-10AB9AA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CC1F-BD69-4053-BE7B-AEEBEED5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19FD-F101-46CA-AF91-603CF41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C7E-2FC2-455B-9380-6CEDF7E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5690-E31A-4A2E-A57E-B6369F0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8991-7222-45F2-955A-E1DCE24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0979C-CCA7-41C9-B2F5-8325192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E282-ABC2-429A-B0A7-53CDC842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8A40-2653-4066-B147-D76BBA4B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2DBE-7B11-4B8D-B69E-EC658893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37741-617D-40AC-B7F0-BE66DC82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B67B-34FF-4463-AB3C-094C1CD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DFBB-95E7-43C7-BB35-554A1ED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64F4-8AA9-4AA3-9805-D67F1C4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8F3-E8CC-42AB-931E-4ADB1D7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B3BF-BD0C-4E99-B655-4A39C26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22AD-B417-46E3-9132-674BF7E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6EA7-AE65-45C6-8A7A-CADC3CB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4C11-029A-4CDF-A1C2-71C61BF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0E9E-4BCD-4B5F-8F93-D2B4204F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DB219-1741-4A43-8D1E-DC5D1C1D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FF22-8423-4004-A04E-D5E38E32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5246-42C7-4C7F-9B16-205B3ADA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7FB63-EA52-4559-8267-BC7D108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034EB-9E12-4E3B-8FCB-F2708B0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8D91-0BAD-4A83-A8D5-1FB321875B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621-AFDD-4401-B565-152752358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135-99D5-4857-A9AA-816DED57A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2108-49E4-4173-8DD5-0E1ACC6BE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03CE-0849-477B-B8B5-B2313734F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454-F0DB-4788-A646-7AE0ADABE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50E-246A-45BA-9DF6-AE410CE5A4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DD7-9AC3-445A-87FA-4A76A1918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AA8-C876-4AD8-9C14-C93E9E638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5AA7-9598-4A34-B500-4B8137330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370A-D52B-436D-BE20-B9C82901E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A9E-8FEF-4EC0-B0E4-F93AD82CB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C1A0-8501-468F-B6AC-73F30F16E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8F6E-2951-48D4-83C1-BACB5D901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A9E-41AF-491A-AA3F-08E37D6CD5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CA6-48D6-45A4-AB9A-3DBFDFA6D0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C17-80E3-4DA2-8288-0669B780AC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156-32A0-4729-BDF5-70BBBE062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0B7A-ECFE-4AB2-BD49-362BF252C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845-D9B7-449B-B47F-D303F3A2E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B0D-DEEC-4ADA-9E5C-252A8B56F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A148-F4A5-454D-863C-5F7F4505DB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EE9-83E0-444D-BD68-E15E5A294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7CA-DAC8-4603-8311-77E03C9A4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5B04-834C-4AF2-BE42-2CBED8BF1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719-4420-4BE3-8310-FC7E2F84C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FAE-E9D3-46FA-A447-31152FC29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5D1A-676F-46D2-9073-DC2DB33BC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EA8-43CF-45E6-8DB6-6CA31A64D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C144-E997-45FF-AFFA-58292F959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C0F-61AB-44D4-B8FD-0C888F12F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E66C-C767-4C09-9E75-5DDC93900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2C10-DF63-4510-915D-588BCA8E1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739-A90D-4A0C-8CE7-64B3E65D93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437-7009-4873-8638-1AA8AA74DF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136-3A20-402A-8D41-6C3B05313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0522-DA4F-4362-9AE4-EA43DC9C0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C9ED-2BE5-4801-B077-8400AE86A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EB29-B4CA-4880-9A17-CD9BA7700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B78-6DA5-48E1-8A0A-FEB9CF911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0B8B-E49D-465C-872B-5C2DF91B3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5383-7B27-4A02-B502-2D4EC6B68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33440" y="2405160"/>
            <a:ext cx="6477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28600" y="852480"/>
            <a:ext cx="8686800" cy="5153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050920" y="556092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619200" y="2838600"/>
            <a:ext cx="7905600" cy="1180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47680" y="831960"/>
            <a:ext cx="8648640" cy="5848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788508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8850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788508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788508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390600" y="809640"/>
            <a:ext cx="8362800" cy="523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52640" y="1243080"/>
            <a:ext cx="7038720" cy="4371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332000" y="505620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58640" y="79200"/>
            <a:ext cx="8460000" cy="6699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3024360" cy="1295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042920" y="469584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042920" y="55166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116000" y="6222960"/>
            <a:ext cx="68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8600" y="84780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51468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755640" y="5041800"/>
            <a:ext cx="4248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2920" y="406440"/>
            <a:ext cx="8858160" cy="6257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14684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00000" y="299736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900000" y="530064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900000" y="609300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0:1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